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4F14478D-8BC7-4E11-84F6-CB7373F33163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</a:t>
            </a:r>
            <a:fld id="{160C5494-3C47-4121-85FD-448B91E4BE5A}" type="slidenum"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財務管理及策劃</a:t>
            </a:r>
            <a:r>
              <a:rPr b="0" lang="en-US" sz="1200" spc="-1" strike="noStrike">
                <a:solidFill>
                  <a:srgbClr val="ffffff"/>
                </a:solidFill>
                <a:latin typeface="新細明體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其他登記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新細明體"/>
                <a:ea typeface="新細明體"/>
              </a:rPr>
              <a:t>	</a:t>
            </a:r>
            <a:r>
              <a:rPr b="0" lang="zh-CN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財務管理及策劃 – </a:t>
            </a:r>
            <a:r>
              <a:rPr b="0" lang="zh-TW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非經常津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057400"/>
            <a:ext cx="2362320" cy="2743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64720" y="1270080"/>
            <a:ext cx="546480" cy="1024920"/>
            <a:chOff x="864720" y="1270080"/>
            <a:chExt cx="546480" cy="1024920"/>
          </a:xfrm>
        </p:grpSpPr>
        <p:sp>
          <p:nvSpPr>
            <p:cNvPr id="48" name=""/>
            <p:cNvSpPr/>
            <p:nvPr/>
          </p:nvSpPr>
          <p:spPr>
            <a:xfrm>
              <a:off x="864720" y="12700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會計文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013040" y="1700280"/>
              <a:ext cx="237960" cy="594720"/>
              <a:chOff x="1013040" y="1700280"/>
              <a:chExt cx="237960" cy="594720"/>
            </a:xfrm>
          </p:grpSpPr>
          <p:sp>
            <p:nvSpPr>
              <p:cNvPr id="50" name=""/>
              <p:cNvSpPr/>
              <p:nvPr/>
            </p:nvSpPr>
            <p:spPr>
              <a:xfrm>
                <a:off x="1013040" y="170028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1013040" y="193788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1013040" y="21762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31840" y="193788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31840" y="193788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31840" y="21762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508680" y="1828800"/>
            <a:ext cx="363600" cy="835200"/>
            <a:chOff x="508680" y="1828800"/>
            <a:chExt cx="363600" cy="835200"/>
          </a:xfrm>
        </p:grpSpPr>
        <p:sp>
          <p:nvSpPr>
            <p:cNvPr id="57" name=""/>
            <p:cNvSpPr/>
            <p:nvPr/>
          </p:nvSpPr>
          <p:spPr>
            <a:xfrm>
              <a:off x="508680" y="238752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校</a:t>
              </a: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65200" y="1828800"/>
              <a:ext cx="237960" cy="595440"/>
              <a:chOff x="565200" y="1828800"/>
              <a:chExt cx="237960" cy="595440"/>
            </a:xfrm>
          </p:grpSpPr>
          <p:sp>
            <p:nvSpPr>
              <p:cNvPr id="59" name=""/>
              <p:cNvSpPr/>
              <p:nvPr/>
            </p:nvSpPr>
            <p:spPr>
              <a:xfrm>
                <a:off x="565200" y="1828800"/>
                <a:ext cx="237960" cy="23796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65200" y="206676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565200" y="230508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84000" y="2066760"/>
                <a:ext cx="0" cy="23832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84000" y="206676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4000" y="230508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4608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財務管理及策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72480" y="3278160"/>
            <a:ext cx="4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 </a:t>
            </a: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簿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400" y="57927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其它登記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187320" y="609480"/>
            <a:ext cx="609840" cy="1076760"/>
            <a:chOff x="6187320" y="609480"/>
            <a:chExt cx="609840" cy="1076760"/>
          </a:xfrm>
        </p:grpSpPr>
        <p:grpSp>
          <p:nvGrpSpPr>
            <p:cNvPr id="69" name=""/>
            <p:cNvGrpSpPr/>
            <p:nvPr/>
          </p:nvGrpSpPr>
          <p:grpSpPr>
            <a:xfrm>
              <a:off x="6187320" y="609480"/>
              <a:ext cx="609840" cy="609480"/>
              <a:chOff x="6187320" y="609480"/>
              <a:chExt cx="609840" cy="60948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6187320" y="609480"/>
                <a:ext cx="304920" cy="3045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264000" y="838080"/>
                <a:ext cx="75960" cy="38088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644880" y="838080"/>
                <a:ext cx="76320" cy="38088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02160" y="1218960"/>
                <a:ext cx="38088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492600" y="609480"/>
                <a:ext cx="304560" cy="3045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310800" y="1227240"/>
              <a:ext cx="3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財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一般設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028640" y="2363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預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600200"/>
            <a:ext cx="57636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2514600"/>
            <a:ext cx="57600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238520" y="3733920"/>
            <a:ext cx="995760" cy="962280"/>
            <a:chOff x="7238520" y="3733920"/>
            <a:chExt cx="995760" cy="962280"/>
          </a:xfrm>
        </p:grpSpPr>
        <p:sp>
          <p:nvSpPr>
            <p:cNvPr id="80" name=""/>
            <p:cNvSpPr/>
            <p:nvPr/>
          </p:nvSpPr>
          <p:spPr>
            <a:xfrm>
              <a:off x="7314840" y="4419720"/>
              <a:ext cx="91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職員成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7238520" y="3733920"/>
              <a:ext cx="952560" cy="685440"/>
              <a:chOff x="7238520" y="3733920"/>
              <a:chExt cx="952560" cy="6854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7238520" y="3810240"/>
                <a:ext cx="247680" cy="482040"/>
                <a:chOff x="7238520" y="3810240"/>
                <a:chExt cx="247680" cy="4820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238880" y="381024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>
                  <a:off x="7238520" y="400284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7238520" y="419580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62360" y="400284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362360" y="400284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62360" y="419580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7714800" y="3733920"/>
                <a:ext cx="247680" cy="482400"/>
                <a:chOff x="7714800" y="3733920"/>
                <a:chExt cx="247680" cy="4824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7715160" y="373392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7714800" y="392652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7714800" y="411984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838640" y="392652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838640" y="392652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838640" y="411984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943400" y="3810240"/>
                <a:ext cx="247680" cy="482040"/>
                <a:chOff x="7943400" y="3810240"/>
                <a:chExt cx="247680" cy="482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943760" y="381024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7943400" y="400284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7943400" y="419580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67240" y="400284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67240" y="400284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067240" y="419580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467120" y="3936960"/>
                <a:ext cx="247680" cy="482400"/>
                <a:chOff x="7467120" y="3936960"/>
                <a:chExt cx="247680" cy="4824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467480" y="393696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7467120" y="412956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7467120" y="432288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590960" y="412956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590960" y="412956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590960" y="432288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" name=""/>
          <p:cNvSpPr/>
          <p:nvPr/>
        </p:nvSpPr>
        <p:spPr>
          <a:xfrm>
            <a:off x="6507720" y="5411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固定資產登記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75480" y="4648320"/>
            <a:ext cx="57636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32600" y="59450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銷售及存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03880" y="5181480"/>
            <a:ext cx="576360" cy="79236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3680" y="5029200"/>
            <a:ext cx="57636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121932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每日收費紀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1.   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每日收費紀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非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經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常津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1.    </a:t>
            </a: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校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家具及設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7620120" y="5105160"/>
            <a:ext cx="1447560" cy="1447560"/>
            <a:chOff x="7620120" y="5105160"/>
            <a:chExt cx="1447560" cy="1447560"/>
          </a:xfrm>
        </p:grpSpPr>
        <p:sp>
          <p:nvSpPr>
            <p:cNvPr id="187" name=""/>
            <p:cNvSpPr/>
            <p:nvPr/>
          </p:nvSpPr>
          <p:spPr>
            <a:xfrm flipV="1">
              <a:off x="7702560" y="5104800"/>
              <a:ext cx="1295280" cy="14475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0120" y="511488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08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  <a:ea typeface="新細明體"/>
              </a:rPr>
              <a:t>報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12193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876920"/>
            <a:ext cx="1219320" cy="17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52880" y="0"/>
            <a:ext cx="4191120" cy="1904760"/>
            <a:chOff x="4952880" y="0"/>
            <a:chExt cx="4191120" cy="1904760"/>
          </a:xfrm>
        </p:grpSpPr>
        <p:sp>
          <p:nvSpPr>
            <p:cNvPr id="194" name=""/>
            <p:cNvSpPr/>
            <p:nvPr/>
          </p:nvSpPr>
          <p:spPr>
            <a:xfrm>
              <a:off x="4952880" y="0"/>
              <a:ext cx="4191120" cy="1904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52880" y="0"/>
              <a:ext cx="4191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方法二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: 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在報告管理 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- 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存庫中產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製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並儲存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e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在報告管理 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- 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存庫中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下載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"/>
          <p:cNvSpPr/>
          <p:nvPr/>
        </p:nvSpPr>
        <p:spPr>
          <a:xfrm>
            <a:off x="8167680" y="3881520"/>
            <a:ext cx="685800" cy="122040"/>
          </a:xfrm>
          <a:prstGeom prst="rect">
            <a:avLst/>
          </a:prstGeom>
          <a:solidFill>
            <a:srgbClr val="eb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292929"/>
                </a:solidFill>
                <a:latin typeface="Arial"/>
                <a:ea typeface="細明體"/>
              </a:rPr>
              <a:t>完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914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非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經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常津貼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– 報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600200"/>
            <a:ext cx="7010640" cy="31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透過此功能產製中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、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英文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用戶可以產製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下列兩種報告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新細明體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非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經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常津貼登記冊 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- 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校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新細明體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非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經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常津貼登記冊 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- 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家具及設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新細明體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可在新開啓預覽視窗中產製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或將報告儲存於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管理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–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存庫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可選擇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4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種格式產製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–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PDF, WORD, RICHTEXT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和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EXCEL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在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WORD, RICHTEXT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及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EXCEL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格式中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編輯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產製的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新細明體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5562720"/>
              <a:ext cx="12193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6880" y="3429000"/>
            <a:ext cx="5486040" cy="1739520"/>
            <a:chOff x="2666880" y="3429000"/>
            <a:chExt cx="5486040" cy="1739520"/>
          </a:xfrm>
        </p:grpSpPr>
        <p:sp>
          <p:nvSpPr>
            <p:cNvPr id="124" name=""/>
            <p:cNvSpPr/>
            <p:nvPr/>
          </p:nvSpPr>
          <p:spPr>
            <a:xfrm>
              <a:off x="2666880" y="3429000"/>
              <a:ext cx="5486040" cy="1739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3429000"/>
              <a:ext cx="54860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非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經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常津貼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名稱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代碼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的超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連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19320" y="1219320"/>
            <a:ext cx="289548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5562720"/>
              <a:ext cx="12193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267080" y="4343400"/>
            <a:ext cx="4572000" cy="1371600"/>
            <a:chOff x="4267080" y="4343400"/>
            <a:chExt cx="4572000" cy="1371600"/>
          </a:xfrm>
        </p:grpSpPr>
        <p:sp>
          <p:nvSpPr>
            <p:cNvPr id="133" name=""/>
            <p:cNvSpPr/>
            <p:nvPr/>
          </p:nvSpPr>
          <p:spPr>
            <a:xfrm>
              <a:off x="4267080" y="4343400"/>
              <a:ext cx="457200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4343400"/>
              <a:ext cx="4572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範本連結製作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47920" y="1600200"/>
            <a:ext cx="152388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38" name="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5562720"/>
              <a:ext cx="12193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371600"/>
            <a:ext cx="5562360" cy="6094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905120"/>
            <a:ext cx="11430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8120" y="3733920"/>
            <a:ext cx="4419360" cy="1872720"/>
            <a:chOff x="3048120" y="3733920"/>
            <a:chExt cx="4419360" cy="1872720"/>
          </a:xfrm>
        </p:grpSpPr>
        <p:sp>
          <p:nvSpPr>
            <p:cNvPr id="145" name=""/>
            <p:cNvSpPr/>
            <p:nvPr/>
          </p:nvSpPr>
          <p:spPr>
            <a:xfrm>
              <a:off x="3048120" y="3733920"/>
              <a:ext cx="4419360" cy="1872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3733920"/>
              <a:ext cx="4419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: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啓預覽視窗中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a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覽及列印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05520" y="0"/>
            <a:ext cx="4038480" cy="2285640"/>
            <a:chOff x="5105520" y="0"/>
            <a:chExt cx="4038480" cy="2285640"/>
          </a:xfrm>
        </p:grpSpPr>
        <p:sp>
          <p:nvSpPr>
            <p:cNvPr id="148" name=""/>
            <p:cNvSpPr/>
            <p:nvPr/>
          </p:nvSpPr>
          <p:spPr>
            <a:xfrm>
              <a:off x="5105520" y="0"/>
              <a:ext cx="4038480" cy="228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5520" y="0"/>
              <a:ext cx="4038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的兩種方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法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擇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啓預覽視窗中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擇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–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製並儲存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762120"/>
            <a:ext cx="1751760" cy="1523520"/>
            <a:chOff x="0" y="762120"/>
            <a:chExt cx="1751760" cy="1523520"/>
          </a:xfrm>
        </p:grpSpPr>
        <p:sp>
          <p:nvSpPr>
            <p:cNvPr id="153" name=""/>
            <p:cNvSpPr/>
            <p:nvPr/>
          </p:nvSpPr>
          <p:spPr>
            <a:xfrm>
              <a:off x="0" y="762120"/>
              <a:ext cx="8380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85080" y="1143000"/>
              <a:ext cx="1066680" cy="1142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95680" y="4648320"/>
            <a:ext cx="4114800" cy="1676160"/>
            <a:chOff x="4495680" y="4648320"/>
            <a:chExt cx="4114800" cy="1676160"/>
          </a:xfrm>
        </p:grpSpPr>
        <p:sp>
          <p:nvSpPr>
            <p:cNvPr id="156" name=""/>
            <p:cNvSpPr/>
            <p:nvPr/>
          </p:nvSpPr>
          <p:spPr>
            <a:xfrm>
              <a:off x="4495680" y="4648320"/>
              <a:ext cx="4114800" cy="167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648320"/>
              <a:ext cx="41148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啓預覽視窗中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b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將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列印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用戶的印表機中或儲存於用戶的硬碟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562720"/>
              <a:ext cx="12193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1905120"/>
            <a:ext cx="83808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0" y="3733920"/>
            <a:ext cx="4114800" cy="1676160"/>
            <a:chOff x="4572000" y="3733920"/>
            <a:chExt cx="4114800" cy="1676160"/>
          </a:xfrm>
        </p:grpSpPr>
        <p:sp>
          <p:nvSpPr>
            <p:cNvPr id="165" name=""/>
            <p:cNvSpPr/>
            <p:nvPr/>
          </p:nvSpPr>
          <p:spPr>
            <a:xfrm>
              <a:off x="4572000" y="3733920"/>
              <a:ext cx="4114800" cy="167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733920"/>
              <a:ext cx="41148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–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並儲存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a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檔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5562720"/>
              <a:ext cx="12193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48320" y="4191120"/>
            <a:ext cx="4114800" cy="2133000"/>
            <a:chOff x="4648320" y="4191120"/>
            <a:chExt cx="4114800" cy="2133000"/>
          </a:xfrm>
        </p:grpSpPr>
        <p:sp>
          <p:nvSpPr>
            <p:cNvPr id="173" name=""/>
            <p:cNvSpPr/>
            <p:nvPr/>
          </p:nvSpPr>
          <p:spPr>
            <a:xfrm>
              <a:off x="4648320" y="4191120"/>
              <a:ext cx="4114800" cy="213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4191120"/>
              <a:ext cx="4114800" cy="13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並儲存報告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b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對話框中填寫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説明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c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確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6038280" y="2590920"/>
            <a:ext cx="228600" cy="12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Arial"/>
                <a:ea typeface="新細明體"/>
              </a:rPr>
              <a:t>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62680" y="2830680"/>
            <a:ext cx="380880" cy="12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  <a:ea typeface="新細明體"/>
              </a:rPr>
              <a:t>取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79" name="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5562720"/>
              <a:ext cx="12193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0"/>
            <a:ext cx="2743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產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733920" y="838080"/>
            <a:ext cx="27432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800600" y="2286000"/>
            <a:ext cx="4191120" cy="2285640"/>
            <a:chOff x="4800600" y="2286000"/>
            <a:chExt cx="4191120" cy="2285640"/>
          </a:xfrm>
        </p:grpSpPr>
        <p:sp>
          <p:nvSpPr>
            <p:cNvPr id="184" name=""/>
            <p:cNvSpPr/>
            <p:nvPr/>
          </p:nvSpPr>
          <p:spPr>
            <a:xfrm>
              <a:off x="4800600" y="2286000"/>
              <a:ext cx="4191120" cy="228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0600" y="2286000"/>
              <a:ext cx="41911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製並儲存報告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d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用戶可按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模組的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功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連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結以下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載報告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中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以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下載報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告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abc</cp:lastModifiedBy>
  <dcterms:modified xsi:type="dcterms:W3CDTF">2003-11-27T08:11:31Z</dcterms:modified>
  <cp:revision>257</cp:revision>
  <dc:subject/>
  <dc:title>School Management</dc:title>
</cp:coreProperties>
</file>